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CC32C-10AB-41E9-A451-346B8E5F4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1E771-B4EA-4F61-8831-83F697A1B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58E06-246D-4D99-B854-1D14DC4E8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85D1-0A14-4F39-93F7-D74E0D62A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3BCD8-83DC-430F-8C6A-711CF8E34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B16D-E1E6-4B39-A4C2-2E04979A4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53E14-9163-40B6-80A9-723E277C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39E85-F239-4D15-8AF5-10AB3722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C0078-9AE5-4AAD-B993-9386FA3F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E88A-2D69-4F9C-A1B6-35BFF30C4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DF2AB-D765-4224-B3C0-9D01DE4A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17A8-2DEC-47A7-B40E-30912372E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36AF-A652-46AB-95A8-D99313E483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76000"/>
          </a:bodyPr>
          <a:p>
            <a:pPr marL="260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Repeated feedback among essays - what not to do</a:t>
            </a:r>
            <a:endParaRPr b="0" lang="en-US" sz="28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strong topic sentence that orients discussion around support for thesis, NOT plo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Using exclusively full sentence quotations, often with repetitive language announcing the use of a quote, and comma to introduce long quote:</a:t>
            </a:r>
            <a:endParaRPr b="0" lang="en-US" sz="2400" spc="-1" strike="noStrike">
              <a:solidFill>
                <a:srgbClr val="000000"/>
              </a:solidFill>
              <a:latin typeface="Arial"/>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By looking at this quote, one can see how Jack adheres completely to these characteristics, “Jack had meant to leave him in doub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luding quote first and </a:t>
            </a:r>
            <a:r>
              <a:rPr b="0" lang="en-US" sz="2400" spc="-1" strike="noStrike" u="sng">
                <a:solidFill>
                  <a:srgbClr val="000000"/>
                </a:solidFill>
                <a:uFillTx/>
                <a:latin typeface="Arno Pro"/>
              </a:rPr>
              <a:t>then</a:t>
            </a:r>
            <a:r>
              <a:rPr b="0" lang="en-US" sz="2400" spc="-1" strike="noStrike">
                <a:solidFill>
                  <a:srgbClr val="000000"/>
                </a:solidFill>
                <a:latin typeface="Arno Pro"/>
              </a:rPr>
              <a:t> explaining the context of the quote</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orrect use of parenthetical citation format</a:t>
            </a:r>
            <a:endParaRPr b="0" lang="en-US" sz="2400" spc="-1" strike="noStrike">
              <a:solidFill>
                <a:srgbClr val="000000"/>
              </a:solidFill>
              <a:latin typeface="Arial"/>
            </a:endParaRPr>
          </a:p>
          <a:p>
            <a:pPr marL="260640" indent="-26064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mini-conclusion at end of paragraph that wraps up all the ideas discussed with an eye to signific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52280"/>
            <a:ext cx="8763120" cy="557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opic sentence establishes name of text and author, responds directly to the prompt and sets up a focus for the rest of the id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At the beginning of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alking about how Aegisthus went against the warnings of the gods and was punished as a resul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152280"/>
            <a:ext cx="876312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Carefully use correct parenthetical citation format: end the quote, end quote mark, parenthetical citation, end parenthetical citation, peri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Zeus is the first featured immortal, and he provides entrance to the discussion of Odysseus by first presenting the plight of Aegisthus, who acted against the will of all the gods and was therefore punished.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Athena, who has been waiting for such an opportunity, uses Aegisthus' fate to highlight Odysseu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52280"/>
            <a:ext cx="8763120" cy="70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only pieces of quotes incorporated into your own original sentences to make the ideas more intrinsically your own.  This provides a chance to draw richly on the text without having to take long pauses from constructing your own ideas and responses to materi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If you continue to refer to only one source, once you’re cited the author in the first parenthetical citation, you can provide page citations alone for subsequent 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brackets [] to indicate words you’ve added to quotes or ways you’ve had to shift the langauge of the quote to fit in your grammatical 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When quoting poetry, slashes / indicate that how the line was broken in the origina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52280"/>
            <a:ext cx="8763120" cy="788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as in this cas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 the lack of indent in the line that comes after, and the follow up on the significance of the quote at the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52280"/>
            <a:ext cx="876312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final sentence that ties together the points made in direct acknowledgment of the stated question and my focus for the paragraph as established in the topic sent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52280"/>
            <a:ext cx="8763120" cy="763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Homer.  </a:t>
            </a:r>
            <a:r>
              <a:rPr b="0" sz="1600" spc="-1" strike="noStrike" u="sng">
                <a:solidFill>
                  <a:srgbClr val="000000"/>
                </a:solidFill>
                <a:uFillTx/>
                <a:latin typeface="Arno Pro"/>
              </a:rPr>
              <a:t>The Odyssey</a:t>
            </a:r>
            <a:r>
              <a:rPr b="0" sz="1600" spc="-1" strike="noStrike">
                <a:solidFill>
                  <a:srgbClr val="000000"/>
                </a:solidFill>
                <a:latin typeface="Arno Pro"/>
              </a:rPr>
              <a:t>.  Trans. Robert Fagles.  New York: Penguin Books,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152280"/>
            <a:ext cx="8763120" cy="806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does Homer characterize Zeus through his relationship to other gods in Book 1 of </a:t>
            </a:r>
            <a:r>
              <a:rPr b="1" sz="1600" spc="-1" strike="noStrike" u="sng">
                <a:solidFill>
                  <a:srgbClr val="000000"/>
                </a:solidFill>
                <a:uFillTx/>
                <a:latin typeface="Abadi MT Condensed Extra Bold"/>
              </a:rPr>
              <a:t>The Odyssey</a:t>
            </a:r>
            <a:r>
              <a:rPr b="1" sz="1600" spc="-1" strike="noStrike">
                <a:solidFill>
                  <a:srgbClr val="000000"/>
                </a:solidFill>
                <a:latin typeface="Abadi MT Condensed Extra Bold"/>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Known as king of the gods, Zeus technically rules over all and is yet shown to be a fearful and  hesitating character in Book 1 of Homer's epic, </a:t>
            </a:r>
            <a:r>
              <a:rPr b="0" sz="1600" spc="-1" strike="noStrike" u="sng">
                <a:solidFill>
                  <a:srgbClr val="000000"/>
                </a:solidFill>
                <a:uFillTx/>
                <a:latin typeface="Arno Pro"/>
              </a:rPr>
              <a:t>The Odyssey</a:t>
            </a:r>
            <a:r>
              <a:rPr b="0" sz="1600" spc="-1" strike="noStrike">
                <a:solidFill>
                  <a:srgbClr val="000000"/>
                </a:solidFill>
                <a:latin typeface="Arno Pro"/>
              </a:rPr>
              <a:t>.  Zeus is the first featured immortal, and he provides entrance to the discussion of Odysseus by first presenting the plight of Aegisthus, who acted against the will of all the gods and was therefore punished.  Athena, who has been waiting for such an opportunity, uses Aegisthus' fate to highlight Odysseus's: </a:t>
            </a:r>
            <a:r>
              <a:rPr b="0" lang="en-US" sz="1600" spc="-1" strike="noStrike">
                <a:solidFill>
                  <a:srgbClr val="000000"/>
                </a:solidFill>
                <a:latin typeface="Arno Pro"/>
              </a:rPr>
              <a:t>“Bu</a:t>
            </a:r>
            <a:r>
              <a:rPr b="0" sz="1600" spc="-1" strike="noStrike">
                <a:solidFill>
                  <a:srgbClr val="000000"/>
                </a:solidFill>
                <a:latin typeface="Arno Pro"/>
              </a:rPr>
              <a:t>t my heart breaks for Odysseus, / that seasoned veteran cursed by fate so long” (Homer 79).  It quickly becomes apparent the even though Zeus </a:t>
            </a:r>
            <a:r>
              <a:rPr b="0" lang="en-US" sz="1600" spc="-1" strike="noStrike">
                <a:solidFill>
                  <a:srgbClr val="000000"/>
                </a:solidFill>
                <a:latin typeface="Arno Pro"/>
              </a:rPr>
              <a:t>“ma</a:t>
            </a:r>
            <a:r>
              <a:rPr b="0" sz="1600" spc="-1" strike="noStrike">
                <a:solidFill>
                  <a:srgbClr val="000000"/>
                </a:solidFill>
                <a:latin typeface="Arno Pro"/>
              </a:rPr>
              <a:t>rshals the thunderheads” (79), he is still fearful of his brother, Poseidon, who has been the cause of Odysseus's delay.  It has taken his brother's absence to make him act differently;  now that Poseidon is </a:t>
            </a:r>
            <a:r>
              <a:rPr b="0" lang="en-US" sz="1600" spc="-1" strike="noStrike">
                <a:solidFill>
                  <a:srgbClr val="000000"/>
                </a:solidFill>
                <a:latin typeface="Arno Pro"/>
              </a:rPr>
              <a:t>“re</a:t>
            </a:r>
            <a:r>
              <a:rPr b="0" sz="1600" spc="-1" strike="noStrike">
                <a:solidFill>
                  <a:srgbClr val="000000"/>
                </a:solidFill>
                <a:latin typeface="Arno Pro"/>
              </a:rPr>
              <a:t>ceiv[ing] an offering” from the Ethiopians (78), Zeus feels moderately comfortable allowing Athena to act behind Poseidon's back.  His indecision is notable through his hesitant diction in the rhetorical question he addresses to Ath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Lord Poseidon, I trust, will let his anger g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How can he stand his ground against the wi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of all the gods at once - one god alone?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act that she doesn't even bother to answer his question, but moves quickly, </a:t>
            </a:r>
            <a:r>
              <a:rPr b="0" lang="en-US" sz="1600" spc="-1" strike="noStrike">
                <a:solidFill>
                  <a:srgbClr val="000000"/>
                </a:solidFill>
                <a:latin typeface="Arno Pro"/>
              </a:rPr>
              <a:t>“Ey</a:t>
            </a:r>
            <a:r>
              <a:rPr b="0" sz="1600" spc="-1" strike="noStrike">
                <a:solidFill>
                  <a:srgbClr val="000000"/>
                </a:solidFill>
                <a:latin typeface="Arno Pro"/>
              </a:rPr>
              <a:t>es flashing bright” (80), before Zeus changes his mind (or Poseidon unexpectedly returns) characterizes Zeus as a figurehead only.  It is Athena through her cunning and persuasive strategies, that possesses power over her “superior,” Ze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Homer.  </a:t>
            </a:r>
            <a:r>
              <a:rPr b="0" sz="1600" spc="-1" strike="noStrike" u="sng">
                <a:solidFill>
                  <a:srgbClr val="000000"/>
                </a:solidFill>
                <a:uFillTx/>
                <a:latin typeface="Arno Pro"/>
              </a:rPr>
              <a:t>The Odyssey</a:t>
            </a:r>
            <a:r>
              <a:rPr b="0" sz="1600" spc="-1" strike="noStrike">
                <a:solidFill>
                  <a:srgbClr val="000000"/>
                </a:solidFill>
                <a:latin typeface="Arno Pro"/>
              </a:rPr>
              <a:t>.  Trans. Robert Fagles.  New York: Penguin Books, 199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badi MT Condensed Extra Bold"/>
              </a:rPr>
              <a:t>How does Homer characterize Telemachus through his relationship with the visitors to his house at the beginning of Book 1 of </a:t>
            </a:r>
            <a:r>
              <a:rPr b="1" sz="2000" spc="-1" strike="noStrike" u="sng">
                <a:solidFill>
                  <a:srgbClr val="000000"/>
                </a:solidFill>
                <a:uFillTx/>
                <a:latin typeface="Abadi MT Condensed Extra Bold"/>
              </a:rPr>
              <a:t>The Odyssey</a:t>
            </a:r>
            <a:r>
              <a:rPr b="1" sz="2000" spc="-1" strike="noStrike">
                <a:solidFill>
                  <a:srgbClr val="000000"/>
                </a:solidFill>
                <a:latin typeface="Abadi MT Condensed Extra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1-28T13:55:10Z</dcterms:modified>
  <cp:revision>3</cp:revision>
  <dc:subject/>
  <dc:title>PowerPoint Presentation</dc:title>
</cp:coreProperties>
</file>